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9BB-9BF7-4016-A768-4CA31B48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7F3-8654-4FE3-9949-D6C4581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410-4BDC-477E-8701-9A215DF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26E-65E1-4F61-BB53-3673235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4770-7206-4D3D-82BA-CB81B284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897-13A1-4EFF-BC9A-A33A5F1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070-CB6F-4137-A5BE-B12C0C1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201C-B4A9-4925-B3FE-42E80C13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5C6-C496-4E45-A1C0-753FB69C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29D0-0D25-4C91-BA49-0787D35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D65D-CA4B-48B5-A5C5-5645277C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6BA-978F-4466-A4EF-2C82D4F9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79B-B3FE-4356-848C-F769029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5FF-3164-461F-8424-58841EE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0ECF-8757-437C-8447-519BD0F1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DCF-A6AC-4158-A4BF-683FA257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B33A-725D-4E19-BFD5-7213452E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6E1-0DE7-46BC-A6F9-8EA34949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F9A-6C86-4FCD-9F58-1BB0F6D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2C2-3879-4A9C-9E30-76D5288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B43-0EC7-4DF6-BE26-9C73D2A7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22E-132B-4EB2-AC63-EEB9816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197-2235-43C4-8CFB-82D1FBA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0F6-3B9E-436B-B8F7-E89A030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AF83-0128-4AA4-840E-75D4F409AC6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778-3CD1-4D7D-AEDD-A3E04A704DA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uchportal.ru/" TargetMode="External"/><Relationship Id="rId3" Type="http://schemas.openxmlformats.org/officeDocument/2006/relationships/hyperlink" Target="http://www.school.edu.ru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205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для ур"/>
          <p:cNvPicPr/>
          <p:nvPr/>
        </p:nvPicPr>
        <p:blipFill>
          <a:blip r:embed="rId2"/>
          <a:stretch/>
        </p:blipFill>
        <p:spPr>
          <a:xfrm>
            <a:off x="2357280" y="2714760"/>
            <a:ext cx="43164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783640" cy="167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71680" y="1928520"/>
            <a:ext cx="81864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облемные вопросы учебной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чему цилиндр называется цилиндр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Цилиндр – тело, полученное вращением прямоугольника вокруг одной из его сторо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8" descr="t"/>
          <p:cNvPicPr/>
          <p:nvPr/>
        </p:nvPicPr>
        <p:blipFill>
          <a:blip r:embed="rId2"/>
          <a:stretch/>
        </p:blipFill>
        <p:spPr>
          <a:xfrm>
            <a:off x="3357720" y="4286160"/>
            <a:ext cx="254628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00040" y="1785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познакомятся с понятием цилиндра, цилиндрической поверх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узнают, что представляет собой сечение цилинд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смогут найти объем цилиндра по формул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знают как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находить площадь поверхности цилиндра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научатся создавать буклеты, презент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000080" y="12859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 ходе проекта учащие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_"/>
          <p:cNvPicPr/>
          <p:nvPr/>
        </p:nvPicPr>
        <p:blipFill>
          <a:blip r:embed="rId2"/>
          <a:stretch/>
        </p:blipFill>
        <p:spPr>
          <a:xfrm>
            <a:off x="2357280" y="1428840"/>
            <a:ext cx="3786480" cy="504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3217"/>
          <p:cNvPicPr/>
          <p:nvPr/>
        </p:nvPicPr>
        <p:blipFill>
          <a:blip r:embed="rId3"/>
          <a:stretch/>
        </p:blipFill>
        <p:spPr>
          <a:xfrm>
            <a:off x="2000160" y="1714680"/>
            <a:ext cx="4978440" cy="460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272_0"/>
          <p:cNvPicPr/>
          <p:nvPr/>
        </p:nvPicPr>
        <p:blipFill>
          <a:blip r:embed="rId4"/>
          <a:stretch/>
        </p:blipFill>
        <p:spPr>
          <a:xfrm>
            <a:off x="1643040" y="1500120"/>
            <a:ext cx="5538960" cy="512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getimg"/>
          <p:cNvPicPr/>
          <p:nvPr/>
        </p:nvPicPr>
        <p:blipFill>
          <a:blip r:embed="rId5"/>
          <a:stretch/>
        </p:blipFill>
        <p:spPr>
          <a:xfrm>
            <a:off x="1928880" y="1428840"/>
            <a:ext cx="5481720" cy="50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566720" y="420840"/>
            <a:ext cx="77965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2960" y="19285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ые вопросы для 1-й груп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такое цилинд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ова формула площади поверхностей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ые вопросы для 2-й груп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называется сечением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ова формула объема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ые вопросы для 3-й груп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представляет собой цилиндрическая поверхно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называется касательной плоскостью цилиндр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TEACHER"/>
          <p:cNvPicPr/>
          <p:nvPr/>
        </p:nvPicPr>
        <p:blipFill>
          <a:blip r:embed="rId2"/>
          <a:stretch/>
        </p:blipFill>
        <p:spPr>
          <a:xfrm>
            <a:off x="285840" y="285840"/>
            <a:ext cx="16714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горелов А. В. Геометрия, 7-11.- М.: Просвещение, 1998. – 383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Book Antiqua"/>
                <a:hlinkClick r:id="rId2"/>
              </a:rPr>
              <a:t>http://www.uchportal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Book Antiqua"/>
                <a:hlinkClick r:id="rId3"/>
              </a:rPr>
              <a:t>www.school.edu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matem"/>
          <p:cNvPicPr/>
          <p:nvPr/>
        </p:nvPicPr>
        <p:blipFill>
          <a:blip r:embed="rId4"/>
          <a:stretch/>
        </p:blipFill>
        <p:spPr>
          <a:xfrm>
            <a:off x="2786040" y="4071960"/>
            <a:ext cx="3753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WordArt 4" descr=""/>
          <p:cNvPicPr/>
          <p:nvPr/>
        </p:nvPicPr>
        <p:blipFill>
          <a:blip r:embed="rId1"/>
          <a:stretch/>
        </p:blipFill>
        <p:spPr>
          <a:xfrm>
            <a:off x="-401760" y="2651040"/>
            <a:ext cx="9668160" cy="285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1876925370"/>
          <p:cNvPicPr/>
          <p:nvPr/>
        </p:nvPicPr>
        <p:blipFill>
          <a:blip r:embed="rId2"/>
          <a:stretch/>
        </p:blipFill>
        <p:spPr>
          <a:xfrm>
            <a:off x="500040" y="714240"/>
            <a:ext cx="25970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8:43Z</dcterms:created>
  <dc:creator>Олюшка</dc:creator>
  <dc:description/>
  <dc:language>en-US</dc:language>
  <cp:lastModifiedBy>Олюшка</cp:lastModifiedBy>
  <dcterms:modified xsi:type="dcterms:W3CDTF">2010-05-20T13:55:38Z</dcterms:modified>
  <cp:revision>33</cp:revision>
  <dc:subject/>
  <dc:title>Тело Вращения - цилиндр</dc:title>
</cp:coreProperties>
</file>